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87A3-E1A9-460A-802E-73FDA7FDCC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80"/>
                </a:solidFill>
                <a:latin typeface="Calibri"/>
              </a:rPr>
              <a:t>Презентация на тем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«Луна - спутница Зем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07AC-C884-41CA-B299-B061439CD5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33A0-31C7-4640-95B7-90856485FB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6134-FF2D-4C47-BF0F-59BA4FA61E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51C7-EA0C-4214-ACA6-8745C2FFB4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Лунный грун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BDCB-FFD5-4FC9-9A69-E3160F1647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cc99"/>
                </a:solidFill>
                <a:latin typeface="Calibri"/>
              </a:rPr>
              <a:t>Битва за Лун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9DC2-DCF1-4191-899F-E82230BC75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1365-0B1C-4C8B-8CE2-D4D6F2DBD2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Этот экипаж привёз на Землю пробы лунного грунта весом 42 к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9CE2-1CCF-4DAF-A22B-A260C244AD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Рождение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Обратная сторона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Лунный гру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Битва за Лу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ECC1-288E-4C45-A6CA-B68B2B9193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1EFD-09F0-4421-8EBA-DB14B32941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На Луне нет атмосферы, поэтому на поверхности Луны днём жара достигает 13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,</a:t>
            </a:r>
            <a:r>
              <a:rPr b="1" lang="en-US" sz="1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а в тени - -17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9EF2-1502-4DC7-A418-8F0D5447AD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Calibri"/>
              </a:rPr>
              <a:t>Обратная сторона Лу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5B84-FE90-4285-8456-C7092A91E8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Рождение Лу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е 4,5 миллиарда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C26D-A838-46A6-A035-C73AA0CEFB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Согласно первой теории Земля и Луна родились из одного небесн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06D3-64C6-43EC-9360-01C58DD0BC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BA8F-B395-4172-9632-13E77326E0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третьей тео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сформировалась в другом месте и впоследствии была захвачена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2F23-CBBB-4C78-A7B3-C91685DFC0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683-244B-4BEF-822A-CBF90902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02F-EA5A-49BE-A21B-9D5FE11F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08C-161C-491D-91ED-3258D46B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27E-068E-4DE4-AB72-D4613C77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CE45-9F6C-44EC-BCCA-55DD3BE0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FAEF-A0DC-4F27-8A63-AFC55E9F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DB1D-5252-4EE6-A962-363459D1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E961-5951-488D-AB54-EDBC0247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F158-74DE-4628-9493-41D56DD8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10C8-D866-412B-A7D0-EFFE375B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6FA6-7E48-4973-8769-9C0EC695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BA7-251C-431C-AB18-6B6D2257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0F8D-31F0-43CF-874A-E248EE91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2E3A-0CF3-4C0C-8636-8E66D119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C3AB-E065-40C5-B5E0-67C3A705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A40C-E938-4C92-B826-C1429A68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1824-B702-4C3B-BE1A-040D48B2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D38-8813-4E92-9DAC-4BE5272F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291-CDB4-484F-A316-5A284C69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493-80E7-4C92-8567-C7A2313F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2B5-BC41-4A37-82A4-6677B8B1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F5C-2009-4FFA-8978-30542811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6AF-8FCA-4841-9690-2DAAC38A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07B-3A53-425B-8BC5-E2F458BC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3DBD-7524-4EF0-825A-2AA9BBB3DC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4948-96A6-4C27-A6E7-04771850519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80"/>
                </a:solidFill>
                <a:latin typeface="Arial"/>
              </a:rPr>
              <a:t>Презентация на тему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280" y="2060280"/>
            <a:ext cx="79930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99"/>
                </a:solidFill>
                <a:latin typeface="Arial"/>
              </a:rPr>
              <a:t>«Луна - спутница Земли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Изменяющийся облик Лун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9" descr="bluemoon_icstars_big"/>
          <p:cNvPicPr/>
          <p:nvPr/>
        </p:nvPicPr>
        <p:blipFill>
          <a:blip r:embed="rId1"/>
          <a:stretch/>
        </p:blipFill>
        <p:spPr>
          <a:xfrm>
            <a:off x="3059280" y="1197000"/>
            <a:ext cx="4537080" cy="340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0" y="4653000"/>
            <a:ext cx="687564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38876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Moon_phases"/>
          <p:cNvPicPr/>
          <p:nvPr/>
        </p:nvPicPr>
        <p:blipFill>
          <a:blip r:embed="rId1"/>
          <a:stretch/>
        </p:blipFill>
        <p:spPr>
          <a:xfrm>
            <a:off x="4211640" y="404640"/>
            <a:ext cx="4465800" cy="6048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moonint"/>
          <p:cNvPicPr/>
          <p:nvPr/>
        </p:nvPicPr>
        <p:blipFill>
          <a:blip r:embed="rId1"/>
          <a:stretch/>
        </p:blipFill>
        <p:spPr>
          <a:xfrm>
            <a:off x="3348000" y="2565360"/>
            <a:ext cx="5291280" cy="396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Лунный грунт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surface"/>
          <p:cNvPicPr/>
          <p:nvPr/>
        </p:nvPicPr>
        <p:blipFill>
          <a:blip r:embed="rId1"/>
          <a:stretch/>
        </p:blipFill>
        <p:spPr>
          <a:xfrm>
            <a:off x="3419640" y="2924280"/>
            <a:ext cx="4967280" cy="3681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147160" cy="28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cc99"/>
                </a:solidFill>
                <a:latin typeface="Arial"/>
              </a:rPr>
              <a:t>Битва за Луну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5370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images1"/>
          <p:cNvPicPr/>
          <p:nvPr/>
        </p:nvPicPr>
        <p:blipFill>
          <a:blip r:embed="rId1"/>
          <a:stretch/>
        </p:blipFill>
        <p:spPr>
          <a:xfrm>
            <a:off x="4643280" y="2060640"/>
            <a:ext cx="423576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42341i"/>
          <p:cNvPicPr/>
          <p:nvPr/>
        </p:nvPicPr>
        <p:blipFill>
          <a:blip r:embed="rId1"/>
          <a:stretch/>
        </p:blipFill>
        <p:spPr>
          <a:xfrm>
            <a:off x="3851280" y="1700280"/>
            <a:ext cx="4321080" cy="48974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Apollo_15_Lunar_Rover_and_Irwin"/>
          <p:cNvPicPr/>
          <p:nvPr/>
        </p:nvPicPr>
        <p:blipFill>
          <a:blip r:embed="rId1"/>
          <a:stretch/>
        </p:blipFill>
        <p:spPr>
          <a:xfrm>
            <a:off x="2050920" y="260280"/>
            <a:ext cx="6481800" cy="4824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916000" y="5157360"/>
            <a:ext cx="58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Этот экипаж привёз на Землю пробы лунного грунта весом 42 к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050920" y="765000"/>
            <a:ext cx="64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Естественный спутник Зем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Рождение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Изменяющийся облик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Обратная сторона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Лунный гру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Битва за Лу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Естественный спутник Земли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176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249_b"/>
          <p:cNvPicPr/>
          <p:nvPr/>
        </p:nvPicPr>
        <p:blipFill>
          <a:blip r:embed="rId1"/>
          <a:stretch/>
        </p:blipFill>
        <p:spPr>
          <a:xfrm>
            <a:off x="4788000" y="1052640"/>
            <a:ext cx="4032000" cy="547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Луне нет атмосферы, поэтому на поверхности Луны днём жара достигает 13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,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 в тени - -17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surface"/>
          <p:cNvPicPr/>
          <p:nvPr/>
        </p:nvPicPr>
        <p:blipFill>
          <a:blip r:embed="rId1"/>
          <a:stretch/>
        </p:blipFill>
        <p:spPr>
          <a:xfrm>
            <a:off x="2987640" y="2060640"/>
            <a:ext cx="5616720" cy="403236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Обратная сторона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file_post_726_600w"/>
          <p:cNvPicPr/>
          <p:nvPr/>
        </p:nvPicPr>
        <p:blipFill>
          <a:blip r:embed="rId1"/>
          <a:stretch/>
        </p:blipFill>
        <p:spPr>
          <a:xfrm>
            <a:off x="3203640" y="2781360"/>
            <a:ext cx="5616360" cy="3744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Рождение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52675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е 4,5 миллиарда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1" descr="луна1"/>
          <p:cNvPicPr/>
          <p:nvPr/>
        </p:nvPicPr>
        <p:blipFill>
          <a:blip r:embed="rId1"/>
          <a:stretch/>
        </p:blipFill>
        <p:spPr>
          <a:xfrm>
            <a:off x="3492360" y="2205000"/>
            <a:ext cx="5329440" cy="410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99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огласно первой теории Земля и Луна родились из одного небесного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5" descr="luna-inside-1"/>
          <p:cNvPicPr/>
          <p:nvPr/>
        </p:nvPicPr>
        <p:blipFill>
          <a:blip r:embed="rId1"/>
          <a:stretch/>
        </p:blipFill>
        <p:spPr>
          <a:xfrm>
            <a:off x="2916360" y="1557360"/>
            <a:ext cx="575928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1" descr="5"/>
          <p:cNvPicPr/>
          <p:nvPr/>
        </p:nvPicPr>
        <p:blipFill>
          <a:blip r:embed="rId1"/>
          <a:stretch/>
        </p:blipFill>
        <p:spPr>
          <a:xfrm>
            <a:off x="4716360" y="620640"/>
            <a:ext cx="4103640" cy="5545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1767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20090318_moon"/>
          <p:cNvPicPr/>
          <p:nvPr/>
        </p:nvPicPr>
        <p:blipFill>
          <a:blip r:embed="rId1"/>
          <a:stretch/>
        </p:blipFill>
        <p:spPr>
          <a:xfrm>
            <a:off x="4643280" y="692280"/>
            <a:ext cx="4249800" cy="5761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3" name="Rectangle 8"/>
          <p:cNvSpPr/>
          <p:nvPr/>
        </p:nvSpPr>
        <p:spPr>
          <a:xfrm>
            <a:off x="395280" y="692280"/>
            <a:ext cx="439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третьей теор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а сформировалась в другом месте и впоследствии была захвачена Землёй.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0:17:44Z</dcterms:created>
  <dc:creator>Admin</dc:creator>
  <dc:description/>
  <dc:language>en-US</dc:language>
  <cp:lastModifiedBy>LEGION</cp:lastModifiedBy>
  <dcterms:modified xsi:type="dcterms:W3CDTF">2015-01-12T09:26:08Z</dcterms:modified>
  <cp:revision>9</cp:revision>
  <dc:subject/>
  <dc:title>Слайд 1</dc:title>
</cp:coreProperties>
</file>